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FE64-0816-490E-A565-E02B31EEE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4855-46E6-42CD-9DCD-069006B7D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81E-2A90-423F-BE00-76A8AEF6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DBD-D33C-4DA8-B7B3-AFF6B6EE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992-8AED-4F95-B81D-797B73FD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011-F654-4515-81CD-052771D3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A936-0817-424D-80A2-4B18907C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82E-EEDE-47CD-8F7B-62233581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687-03B5-4BDC-9924-F0B41101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8E3-429D-4243-9948-8A782EC6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1A5-827B-47A8-8F93-95418607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038-F7C3-44A9-8BD0-E851D94A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D2B-5C8B-4858-928D-98A8B9AA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17E-E751-48E6-BE2D-89224AB0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FD87-DCF1-4887-9AD0-4F6C060F3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ilene  Mo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Jailene Mor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ilene Moreno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447920"/>
            <a:ext cx="6019920" cy="9144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828800"/>
            <a:ext cx="5029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05120" y="15238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6934320" y="1828800"/>
            <a:ext cx="76176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Jailene. Yo vivo en nueva york. Yo tengo catorce años. Yo tengo una hermana y un hermano. Yo soy alta y joven. Mi gusta leer y escrib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42670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ué tal amiga mi familia te extraña. ¿Cuándo vienes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41148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llos están felices en la casa con mi hermano. Tu tienes hermanos? Adió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41911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 días. Mi familia está bien y ellos son calmad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ambién los extraño mucho. Ustedes como están? Mi familia es intelig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8006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trabajando en mi proyecto y estoy con mis hermanos tenemos que estudiar. ¿y tu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666880" y="6019920"/>
            <a:ext cx="48006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voy a desayunar porque quiero comer. Nosotros estamos bien y somos una familia loca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 5 sceonds ago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1981080" y="1828800"/>
            <a:ext cx="434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¿cómo está tu familia y cómo es tu famili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¿Qué estás haciend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57:21Z</dcterms:modified>
  <cp:revision>116</cp:revision>
  <dc:subject/>
  <dc:title>Profile</dc:title>
</cp:coreProperties>
</file>